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CC980-7476-429E-A76D-841EFAB50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B2324-7F88-410D-9755-B123A408E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936EC-7372-48B5-9677-C4FA2C1C5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3F12D-D24A-4DB5-8FF1-EDD83811F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F479F-8455-45C9-BD21-FD36A5ED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F0A8F-B355-40A4-8D0E-66AFBE7B4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5DF85-D068-4319-8C25-F348DE8F4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7F678-241C-4BC5-A8C5-EC45F5F29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32296-3508-478E-9DDB-6A572B850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680E6-982A-4E13-ACA5-1AADE1DAC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D393F-2537-4F14-9B4B-2C9AF3EA4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CAC17-5CD8-46E3-9589-0616B7C004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7B92-28BE-40C1-B78C-EE76443B9D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33cc"/>
                </a:solidFill>
                <a:latin typeface="Jokerman"/>
              </a:rPr>
              <a:t>Moldovan Oana-Mari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000000"/>
                </a:solidFill>
                <a:latin typeface="Arial"/>
              </a:rPr>
              <a:t>  </a:t>
            </a:r>
            <a:r>
              <a:rPr b="1" i="1" lang="ro-RO" sz="1400" spc="-1" strike="noStrike">
                <a:solidFill>
                  <a:srgbClr val="000000"/>
                </a:solidFill>
                <a:latin typeface="Arial"/>
              </a:rPr>
              <a:t>Mă numesc Moldovan Oana Maria,am 17 ani , sunt din localitatea Inau,şi invăţ la Liceul Teoretic IonAgârbiceanu,profil filologi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   </a:t>
            </a:r>
            <a:r>
              <a:rPr b="1" i="1" lang="ro-RO" sz="1400" spc="-1" strike="noStrike">
                <a:solidFill>
                  <a:srgbClr val="000000"/>
                </a:solidFill>
                <a:latin typeface="Arial"/>
              </a:rPr>
              <a:t>Am ales acest profil deoarece imi place foarte mult limba româna,dar mal ales limbile străine,astfel incât aici am posibilitatea să le studiez,dar de asemenea,în viitor aş vrea să urmez facultatea de psihologie,fiindu-mi util si din acest punct de vedere.</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   </a:t>
            </a:r>
            <a:r>
              <a:rPr b="1" i="1" lang="ro-RO" sz="1400" spc="-1" strike="noStrike">
                <a:solidFill>
                  <a:srgbClr val="000000"/>
                </a:solidFill>
                <a:latin typeface="Arial"/>
              </a:rPr>
              <a:t>Mă consider o persoană ambiţioasă,muncitoare şi nu îmi place să fac lucrurile la jumătate de măsură,astfel încât niciodată nu o săa las un lucru pe jumătate făcut,în ciuda efortului depus.</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400" spc="-1" strike="noStrike">
                <a:solidFill>
                  <a:srgbClr val="000000"/>
                </a:solidFill>
                <a:latin typeface="Arial"/>
              </a:rPr>
              <a:t>   </a:t>
            </a:r>
            <a:r>
              <a:rPr b="1" i="1" lang="ro-RO" sz="1400" spc="-1" strike="noStrike">
                <a:solidFill>
                  <a:srgbClr val="000000"/>
                </a:solidFill>
                <a:latin typeface="Arial"/>
              </a:rPr>
              <a:t>Îmi place să îmi petrec timpul liber alături de prietenii mei ,să citesc,să ascult muzică,sau să navighez pe internet,în special pe facebook.De asemenea,ador filmele romantice,pizza şi  limba italiană.</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09:37:16Z</dcterms:created>
  <dc:creator> </dc:creator>
  <dc:description/>
  <dc:language>en-US</dc:language>
  <cp:lastModifiedBy> </cp:lastModifiedBy>
  <dcterms:modified xsi:type="dcterms:W3CDTF">2011-10-07T09:36:04Z</dcterms:modified>
  <cp:revision>3</cp:revision>
  <dc:subject/>
  <dc:title>Moldovan Oana-Maria</dc:title>
</cp:coreProperties>
</file>